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13.jpeg" ContentType="image/jpeg"/>
  <Override PartName="/ppt/media/image2.pct" ContentType="image/x-pict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8.pct" ContentType="image/x-pict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9D4-5B1D-4693-8848-2AC066C9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F7A4-02B5-4B8F-83E6-903A8464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0B7B-ED17-4E45-A894-291C7941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A41B-46D8-48DC-B2EA-55D71107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14A7-1C48-4319-8B23-C1D352B8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CF7-3D84-45CA-B932-BBEBAE69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0E1-D82C-449D-B75C-05A2D725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DAD9-6A43-42A0-B256-3E09E340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CE29-508E-4DF5-A4D6-E863279E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0D8-E9BE-453E-B3B0-7F7D854E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466B-CB3B-4294-A767-7BD2BA94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F3F9-41CF-4444-8359-2934C3CD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BC9F-538A-433A-9250-0CC6D0D7C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fe Cycl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lower Parts &amp;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952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rn to name and explain the functions of some parts of a flower, and describe the processes of poll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1828800" cy="133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00800" y="1981080"/>
            <a:ext cx="114156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81280" y="1752480"/>
            <a:ext cx="19623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200"/>
                </a:solidFill>
                <a:latin typeface="Comic Sans MS"/>
              </a:rPr>
              <a:t>Seed disper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Seeds are dispersed in many different w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Hitchhi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38098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200"/>
                </a:solidFill>
                <a:latin typeface="Comic Sans MS"/>
              </a:rPr>
              <a:t>How birds and animals help seed disper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Some seeds are hidden in the ground as a winter st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Some fruits have hooks on them and cling to fur or clot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800600" y="300996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200"/>
                </a:solidFill>
                <a:latin typeface="Comic Sans MS"/>
              </a:rPr>
              <a:t>How birds and animals help seed disper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Birds and animals eat the fruits and excrete the seeds away from the parent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724280" y="240048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200"/>
                </a:solidFill>
                <a:latin typeface="Comic Sans MS"/>
              </a:rPr>
              <a:t>The Parts of a Fl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Most flowers hav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pe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stam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A pis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A st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An ov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Ovules (eg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200"/>
                </a:solidFill>
                <a:latin typeface="Comic Sans MS"/>
              </a:rPr>
              <a:t>The parts of a fl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24200"/>
                </a:solidFill>
                <a:latin typeface="Comic Sans MS"/>
              </a:rPr>
              <a:t>Petals</a:t>
            </a: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 attract ins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24200"/>
                </a:solidFill>
                <a:latin typeface="Comic Sans MS"/>
              </a:rPr>
              <a:t>Stamens</a:t>
            </a: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 make pol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24200"/>
                </a:solidFill>
                <a:latin typeface="Comic Sans MS"/>
              </a:rPr>
              <a:t>Stigma</a:t>
            </a: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 where pollen sticks on top of pis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24200"/>
                </a:solidFill>
                <a:latin typeface="Comic Sans MS"/>
              </a:rPr>
              <a:t>Pistil</a:t>
            </a: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 where eggs and seeds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95680" y="251460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66880" y="2514600"/>
            <a:ext cx="3505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3352680"/>
            <a:ext cx="35049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886200" y="4114800"/>
            <a:ext cx="2438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209680" y="3886200"/>
            <a:ext cx="4191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200"/>
                </a:solidFill>
                <a:latin typeface="Comic Sans MS"/>
              </a:rPr>
              <a:t>Sta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00"/>
                </a:solidFill>
                <a:latin typeface="Comic Sans MS"/>
              </a:rPr>
              <a:t>Anther</a:t>
            </a: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: pollen grains grow in the an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When the grains are fully grown, the anther splits op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3809880" cy="3533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90920" y="2971800"/>
            <a:ext cx="3581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200"/>
                </a:solidFill>
                <a:latin typeface="Comic Sans MS"/>
              </a:rPr>
              <a:t>Pist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St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Ov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Ov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3809880" cy="3533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62320" y="2286000"/>
            <a:ext cx="4190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3352680"/>
            <a:ext cx="4343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057400" y="3886200"/>
            <a:ext cx="4495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200"/>
                </a:solidFill>
                <a:latin typeface="Comic Sans MS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Flowering plants use the wind, insects, bats, birds and mammals to move pollen from the stamen the stig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32004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4120" y="1523880"/>
            <a:ext cx="2438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200"/>
                </a:solidFill>
                <a:latin typeface="Comic Sans MS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A flower is pollinated when a pollen grain lands on its stig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The pollen travels down the pistil to the eggs in the ov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Eggs in the ovary grow into fruit which contains the se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267080" cy="3959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V="1">
            <a:off x="3276720" y="2666520"/>
            <a:ext cx="3504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200"/>
                </a:solidFill>
                <a:latin typeface="Comic Sans MS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Pollen grains germinate on the stigma, growing down the pistil to the ovule in the ov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Fertilized ovules develop into s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The pistil get larger and turns into fruit to protect the ov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2438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200"/>
                </a:solidFill>
                <a:latin typeface="Comic Sans MS"/>
              </a:rPr>
              <a:t>Wind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Some flowers, like grasses, do not have brightly colored petals and nectar to attract ins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They do have stamens and ov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These flowers are pollinated by the w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2T18:08:52Z</dcterms:created>
  <dc:creator>Diane Hawkins</dc:creator>
  <dc:description/>
  <dc:language>en-US</dc:language>
  <cp:lastModifiedBy>SD 34</cp:lastModifiedBy>
  <dcterms:modified xsi:type="dcterms:W3CDTF">2007-10-02T15:39:35Z</dcterms:modified>
  <cp:revision>20</cp:revision>
  <dc:subject/>
  <dc:title>Reproduction in Flowering Plants</dc:title>
</cp:coreProperties>
</file>